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4B7-689B-4B22-B881-B8826442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017-F659-4A8A-9B56-8DE104E8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BC4-1F48-48E7-875B-6EB7A6BF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57E-FD86-4E9B-9D66-059CA716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729-1530-4BA2-B4FD-6EB37E7F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B26-D39F-42EC-9A76-ACB13BEC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7FA-B5A0-435A-91C7-54DE14E8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665-0366-46B4-9FD6-ED716C76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BA3-52CC-49B5-8733-F10A85AE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92B-2DFC-4199-8A95-53F3F4AE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DB4-9E7D-4D24-B5D5-2C437877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4A9-DFB2-4B46-A7EC-AAF0457E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6722-9CB2-47CC-A309-491468280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44792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 endings and noun / adjective agree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4479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Nouns that end i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re generally feminine and nouns that end i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o 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generally masculin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447920"/>
            <a:ext cx="77724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feminine  - la blus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,  la fald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, la camis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asculine - el vestid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, el sombre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, el zapa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4479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Nouns that end i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e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or a consonant can be either gender and must be learned individuall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447920"/>
            <a:ext cx="77724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feminine  - la estudian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,  la televis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asculine - el lápiz, el calcetín, el parque, el restauran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447920"/>
            <a:ext cx="7772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s that end in  eithe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o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hange their ending according to the gender of the noun they modif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83808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un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83808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el  señor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447920"/>
            <a:ext cx="7772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s that end in  eithe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e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or a consonant do not change their ending according to  gend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4479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However, adjectives that end i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e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do add a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if the noun they modify is plura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4479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s that end in a consonant add an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e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if the noun they modify is plura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19320" y="144792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 always agree with nouns and articles in Spanish in gender and numb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8380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un sombre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zu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fald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ver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ombre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 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zu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fald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verde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83808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el  señor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1447920"/>
            <a:ext cx="85345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Adjective agreement also holds in this case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e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boni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. Nosot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som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rubi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498680"/>
            <a:ext cx="6004080" cy="229788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om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e verbs. Verbs do not follow these rules in the sam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aúl es cómic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81952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osalinda es bonit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281952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ill es rubi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274320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ciela es simpátic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74320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amigos de Francisco son divertid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657600"/>
            <a:ext cx="990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faldas son larg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819520"/>
            <a:ext cx="9903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zapatos son negr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2819520"/>
            <a:ext cx="10666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447920"/>
            <a:ext cx="6858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f a noun is masculine, the adjective which modifies it must be masculine als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soy inteligent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281952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ud es un perro gord___ y perezos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281952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65760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gato en la camiseta de la chica es fe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65760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hicos son fuert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819520"/>
            <a:ext cx="9144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ónica es muy guap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281952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ciela y Rosalinda son muy buen____ amig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657600"/>
            <a:ext cx="990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aúl lleva una chaqueta azul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65760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osalinda lleva un vestido amarill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65760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8954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Bill lleva una camisa roj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281952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Graciela tiene una bolsa grand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65760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44792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f a noun is feminine, the adjective which modifies it must be feminine als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zapatos de Bill son blanc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3657600"/>
            <a:ext cx="990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vaqueros de Raúl son azul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6576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falda de Graciela es morad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733920"/>
            <a:ext cx="7462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t the appropriate ending on the adjective in each sentence or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8954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misa de Francisco es anaranjad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657600"/>
            <a:ext cx="7459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914400"/>
            <a:ext cx="7391520" cy="537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9320" y="144792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If a noun is plural and ends with an -s , the adjective must end in an -s as we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3808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un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un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chic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alt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83808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el  señor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sg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m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Times New Roman"/>
              </a:rPr>
              <a:t>f.pl.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    l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seño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guap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1447920"/>
            <a:ext cx="6858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any adjectives and many nouns end in the eithe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a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o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o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. Some end in either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e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or a consonant lik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-l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44792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Nouns have only one gender and always reflect that gender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0:21:52Z</dcterms:created>
  <dc:creator>Paul Widergren</dc:creator>
  <dc:description/>
  <dc:language>en-US</dc:language>
  <cp:lastModifiedBy>Paul Widergren</cp:lastModifiedBy>
  <dcterms:modified xsi:type="dcterms:W3CDTF">2002-10-04T11:18:00Z</dcterms:modified>
  <cp:revision>1</cp:revision>
  <dc:subject/>
  <dc:title>No Slide Title</dc:title>
</cp:coreProperties>
</file>